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5BB7-2A83-4E77-8E0F-AD90D32D99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нализ тенденций развития химии на примере 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их премий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E2D3-C976-46A0-9D46-DF367705576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тенденций развития химии на примере анализа Нобелевских премий по химии показывает, что химия XX в. характеризуется наличием особого теоретического фундамента – атомно-молекулярных представлений, основанных на квантово-механической модели атома. Наличие такой базы существенно повысило роль теоретической  химии  в  XX столетии по сравнению с предыдущим этапом  развития  этой науки. Создание принципиально новых (квантово-химических и физико-химических) концепций сделало возможной количественную оценку реакционной способности веществ и количественную характеристику особенностей протекания их химических превращений, что привело к значительной интенсификации взаимодействия теории и экспери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BB86-D17B-45BC-9C0F-C3C4560FE43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есс химии  во многом определили физико-химические и физические методы исследования вещества, что особенно характерно для второй половины XX столетия. Появление и развитие таких методов, как рентгеноструктурный анализ, масс-спектрометрия, методы электронного парамагнитного резонанса, ядерного магнитного резонанса, ИК спектроскопии и других привнесло не просто экспериментальное усовершенствование, а качественно новый аспект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химическое исследование – возможность определить пространственную структуру молекулы. Эта возможность оказалась определяющей для  развития   химии , поскольку свойства вещества зависят от строения его молекул. Появление физических методов исследования вещества способствовало тому, что микросистемы стали объектом особого внимания в химической науке XX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CD11-D671-46D2-9936-81931F2A5C9D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заимодействие химии с другими естественными науками привело к возникновению целого ряда пограничных обл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фференциация химической науки XX столетия проявилась в возникновении отдельных ветвей химии – неорганической, физической, органической и др., каждая из которых приобрела признаки независимой науки. Разделение различных направлений химии было основано как на методах (например, лазерная химия, химия высоких давлений, комбинаторная химия) так и на объектах исследования (нефтехимия, химия полимеров и др.). В XX в. возникло довольно много новых направлений в химии, потребовавших специфического теоретического аппарата (радиохимия, медицинская химия и др.). 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мках процесса разделения химической науки на отдельные дисциплины следует отметить размывание границ между ними и условность отнесения ряда исследований (например, исследований элементоорганических веществ или координационных соединений с органическими лигандами) к тому или иному разделу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FC2A-F691-4A9B-B55B-5AF18366A412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м из важнейших результатов интеграции  химии  с другими дисциплинами стало появление во второй половине XX в. новой  тенденции  в ее  развитии . Эта тенденция проявилась в определяющем значении биологических и экологических проблем в химических исследованиях и явилась следствием быстрого прогресса биологических дисциплин во второй половине XX в.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личные разделы физической  химии  получили дальнейшее  развитие , и некоторые из них (химическая кинетика, коллоидная  химия , электрохимия и др.) стали обширными научными дисциплинами, выходящими за рамки классической физической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5050-282F-435F-93D9-6F2FC828AC14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Нобелевских премий по химии показывает, что р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оты в области неорганической химии, органической химии и биоорганической химии множатся быстрее, чем во всех остальных областях химии (их объем тоже растет, но существенно медленнее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четание компьютерных методов с одной стороны, и методов биохимии, с другой, вызывают переориентацию органической химии с традиционного ее толкования на все большее выявление взаимоотношений структуры и свойства. По всей видимости, можно прогнозировать, что органическая  химия, поддержанная  развитием  биохимии, математики, биофизики, найдет новую точку роста в области связи структуры и свойств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0BC0-DD3D-4AEA-860B-A3E3076794F3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 развития  науки химии  характерны некоторые так называемые внешние особенности. Они проявились в том, что исследования в этот период стали проводиться в рамках институтов, как, правило, не единичными исследователями, а (особенно во второй половине XX в.) большими группами исследователей. Существенно возросла роль информационного фактора – увеличилось количество периодических изданий, конференций и пр., способствующих быстрому обмену информацией и прогрессу химической науки. К концу XX столетия химия стала представлять собой громадный конгломерат научно-исследовательских разработок и мощной химической индустрии. (Нобелевские премии начали присуждать группе учен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8A43-5884-49E6-B77A-E22C2B327764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, в 1930-х гг. в работах русского физика и химика Н.Н. Семенова и американского химика С. Хиншелвуда были созданы (и подтверждены экспериментально) основы теории разветвленных цепных реа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ы Д. Ч. Поляни, Д. Р. Хершбаха и др. способствовали развитию нового направления в области химической кинетики – изучению динамики элементарных химически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36B3-8B0F-4D4C-A2C3-F133824FE003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й дисциплиной, возникшей на границе физики и химии, стала коллоидная химия . Обнаружение специфики коллоидной частицы позволило многим философам и историкам химии рассматривать ее как пример изученного в XX столетии «усложнения уровней внутренней организации» вещества по сравнению с различаемыми во второй половине XIX в. атомом и молекулой. К таким более сложным видам организации вещества (которые часто трудно однозначно отнести к физическим или химическим) относят не только коллоидные частицы, но и полученные в 1950-х – 1990-х гг. «топологические» молекулы (катенаны, ротаксаны), супрамолекулы, а также наносистемы и т.п. Отметим, что наносистемы  (а наноразмер – это размер коллоидной частицы) стали выделять в отдельную группу химических объектов примерно в 1980 – 1990-х гг.; тогда же возникло специальное направление исследований – нанохим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F801-E467-4077-B54F-F6F990F01DD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Нобелевская пр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onstantia"/>
              </a:rPr>
              <a:t> 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ая премия по   химии  —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ее престижная  награда за научные достижения в области химии, ежегодно присуждаемая Нобелевским  комитетом в Стокголь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ериод с 1901 г., когда впервые состоялось присуждение Нобелевских премий, по 2010 г. число лиц и организаций, ставших нобелевскими лауреатами, достигло 833. В совокупности они представляют очень большую часть истории мировой науки и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82F4-CF10-404C-8AB4-5CCB8D6D996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рганической химии наиболее ярко проявилась свойственная химии способность создавать вещества, не существующие в природе. Например,                         в 1940-60-х гг. американский химик Р. Вудворд осуществил синтез сложнейших биологически-активных органических соединений – хинина, витамина В12, стрихнина, холестерина, и др. В конце 1960-х гг. американский ученый Э. Кори сформулировал общую методологическую концепцию органического синтеза, получившую название ретросинтетического подхода.  Нобелевская премия по  химии  (2006 г.) была присуждена за вклад «в  развитие  метатезиса в органическом синтезе» французскому ученому И. Шовену и американским ученым Р. Граббсу и Р. Шроку. «Успехи в исследовании реакции обмена, сделанные этими учеными, позволяют создавать новые молекулы для использования в фармацевтических препаратах и безвредном для окружающей среды производстве химикалий и пластмасс», - отмечается в сообщении Королевской академии наук Шве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7CAC-823B-402E-817C-4DF54E98F967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торой половине ХХ в. очень большое значение приобрели научные дисциплины, возникшие на границе органической химии и биологии. «Взрывное»  развитие  претерпели такие науки, как биохимия, биоорганическая  химия , молекулярная биология и т.д. Методы органической химии широко использовались при изучении белковых веществ и ферментов. Также началось интенсивное  развитие   химии  нуклеиновых кислот. В начале 1950-х гг. было сделано два основополагающих открытия в химии нуклеиновых кислот. Английские химики А. Тодд и Д. Браун обосновали базовый принцип строения РНК. В 1953 г. Дж. Уотсон и Ф. Крик установили вторичную структуру ДНК, что позволило объяснить процесс удвоения молекул ДНК при делении кл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17AA-E809-4DEA-BE83-9915E27D442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ло новое самостоятельное направление исследований – молекулярная биология, изучающая биологические явления на молекулярном уровне. Она добилась удивительных успехов в изучении химизма передачи наследственных признаков. Так, в 1950-70-х гг. были синтезированы первые полинуклеотиды, расшифрован генетический код, расшифрована первичная структура ряда молекул ДНК и РНК. Все эти исследования открыли путь для развития генной инженерии. В области молекулярной биологии были сделаны важнейшие открытия, касающиеся химических основ процессов синтеза белка в клетке, передачи нервного импульса и многих других биологических процессов.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9116-905E-4F87-94B9-743BF9B97E5D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тя осмысление и анализ научных достижений  на примере Нобелевских  премий по химии  еще предстоит историкам, тот факт, что области исследований на стыке органической химии с биологией стали в этот период доминирующими в научной химической проблематике, представляется несомненным уже сейчас. Интерес к изучению биологических объектов и процессов проявился практически во всех областях хим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ий путь  развития  химических теорий привел к небывалому прогрессу  химии  ХХ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., результаты которого стали неотъемлемой частью общего прогресса естествознания и повседневной жизни кажд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5AE7-6B5E-4221-B521-BEEC9BBE6E19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Азимов А. Краткая история химии.  Развитие  идей и представлений в  химии . – Спб.: Амфора, 2002. – 26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Быков Г. В. История органической химии. Открытие важнейших органических соединений. М.: Наука, 1978 – 37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Возникновение и  развитие   химии  с древнейших времен до XVII в. Всеобщая история химии. – М.: Наука, 1980. – 39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Джуа М. История химии. – М.: Мир, 1975. – 477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Зефирова О. Н. Краткий курс истории и методологии химии. – М.: Анабасис, 2007. – 14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Кузнецов В. И. Диалектика  развития   химии  (от истории к теории  развития   химии). – М.: Наука, 1973. – 327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оловьев Ю. И., Трифонов Д. Н., Шамин А. Н. История химии.  Развитие  основных направлений современной  химии . – М.: Просвещение, 1984. – 335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 Становление химии как науки. Всеобщая история химии. – М.: Наука, 1983. – 46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5F4B-4E5A-4425-B560-DDA99DB07EEF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ь классических премий установил в 1895 году, подписав свою последнюю волю, знаменитый химик и изобретатель Альфред Нобель. Он завещал инвестировать большую часть своего состояния в фонд, доходы которого будут раз в год оплачивать награду людям, принесшим пользу человечеству в областях физики, химии, физиологии и медицины, литературы и дела укрепления мира. Именно в таком порядке они были перечислены в завещании Нобеля, и именно в таком порядке лауреаты получают премию на декабрьском приёме у короля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B290-A139-473D-80AB-7D9EA477C06D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ыре премии – по физике, химии, литературе и экономике – присуждает Шведская академия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я в области физиологии и медицины Нобель доверил оценивать стокгольмскому Каролинскому институ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от премию мира и объявляют, и вручают в Осло. По не понятным до конца причинам перед смертью Альфред Нобель доверил выбор лауреата комиссии из пяти человек, представляющих норвежский Сторт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00E8-90CD-4677-8A0B-F19C913B7979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учение Нобелевских премий происходит 10 декабря, в годовщину смерти Альфреда Нобеля. В этот же день в столице Норвегии Осло проводится церемония награждения Нобелевской премией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этой же неделе проводится и ряд других мероприятий, в частности, приемы и банкеты, организуемые каждым из учреждений, присуждающих премии, а также Нобелевским фондом и королевской фамилией Шве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ы выступают с лекциями на тему своей работы, а нередко организуются еще и публичные дискуссии и другие вы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F4AD-60A6-4DC6-82B4-B75736095248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ственным химиком, кто получил две Нобелевские премии по химии (в 1958 и 1980 годах) был Фредерик Сэнг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ще двое получили по две Нобелевские премии по различным дисциплинам – Мария Кюри (по физике в 1903 году и по химии в 1911 году) и Лайнус Полинг (по химии в 1954 году и мира в 1962 году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сю историю Нобелевской премии по химии было восемь перерывов ее присуждения: в 1916, 1917, 1919, 1924, 1933 и 1940-1942 го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6A89-3959-4E74-8A50-326463E7A5D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глийский биохимик и корифей молекулярной биологии, дважды лауреат Нобелевской премии по химии: за определение аминокислотной последовательности инсулина (1955 г.) и  за разработку метода секвенирования ДНК (1980 г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им открытием  Сэнгер  дал возможность заглянуть "внутрь" молекул белка, открыв новую эру в развитии современной биохимии. Экспериментальные методы  Сэнгера  широко применяются в настоящее время для исследования строения различных белковых молекул.                 В настоящее время  Сэнгер  занимается биохимией бел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1C3C-B925-45FF-97D3-6F52F5242BA2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ая премия по химии была вручена в 1901 году голландцу                           Я. Х. Вант-Гоффу за работу                            в области законов химической динамики и осмотического давления в раство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874 -75 В. впервые изложил теорию пространственного расположения атомов                          в молекулах органических соединений, лежащую в основе современной стереохимии. Им были созданы или значительно расширены: химическая кинетика, термодинамика химических реакций, теория разбавленных растворов и учение о равновесиях в водно-солевых системах. Вант-Гоффу принадлежит одно из основных уравнений химической термодинамики, которое выражает зависимость константы равновесия от температуры реакции и показывает, что эта зависимость определяется тепловым эффектом реакции. Он вывел формулу, выражающую константу равновесия через изменение свободной энергии (энергии Гиббса). Тем самым закон действующих масс для химического равновесия получил термодинамическое обосн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57FB-15D6-489E-8CF8-0816978537D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ами Нобелевской премии по химии 2010 года  стали ученые из США и Японии - американец Ричард Хек и японцы Эити Негиси и Акира Судзуки. Они получ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мию за исследования в области органического синтеза. Ученые изучали реакции создания перекрестных связей                          в ходе органического синтеза с помощью палладиевых катализа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говорится в сообщении Нобелевского комитета, премия присуждается этим исследователям за "разработку новых, более эффективных способов соединения атомов углерода для построения сложных молекул, которые совершенствуют повседневную жизнь люде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BA96-B64F-41A7-899F-90E1C3BD6BE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3"/>
          <p:cNvSpPr/>
          <p:nvPr/>
        </p:nvSpPr>
        <p:spPr>
          <a:xfrm>
            <a:off x="0" y="3429000"/>
            <a:ext cx="5940360" cy="1368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3" descr=""/>
          <p:cNvPicPr/>
          <p:nvPr/>
        </p:nvPicPr>
        <p:blipFill>
          <a:blip r:embed="rId1"/>
          <a:stretch/>
        </p:blipFill>
        <p:spPr>
          <a:xfrm>
            <a:off x="2535120" y="2646360"/>
            <a:ext cx="6462720" cy="29005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5508720" y="609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2060"/>
                </a:solidFill>
                <a:latin typeface="Arial"/>
              </a:rPr>
              <a:t>Выполнила: Уралбаева К.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2060"/>
                </a:solidFill>
                <a:latin typeface="Arial"/>
              </a:rPr>
              <a:t>Астана, І группа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" name="Picture 5" descr="C:\Users\Кульпаш\Desktop\фото для оформ\о-1.jpg"/>
          <p:cNvPicPr/>
          <p:nvPr/>
        </p:nvPicPr>
        <p:blipFill>
          <a:blip r:embed="rId2"/>
          <a:stretch/>
        </p:blipFill>
        <p:spPr>
          <a:xfrm>
            <a:off x="249120" y="2852640"/>
            <a:ext cx="23544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2"/>
          <p:cNvSpPr/>
          <p:nvPr/>
        </p:nvSpPr>
        <p:spPr>
          <a:xfrm>
            <a:off x="684360" y="3206880"/>
            <a:ext cx="799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тенденций развития химии на примере анализа Нобелевских премий по химии показывает, что химия XX в. характеризуется наличием особого теоретического фундамента – атомно-молекулярных представлений, основанных на квантово-механической модели атома. Наличие такой базы существенно повысило роль теоретической  химии  в  XX столетии по сравнению с предыдущим этапом  развития  этой науки. Создание принципиально новых (квантово-химических и физико-химических) концепций сделало возможной количественную оценку реакционной способности веществ и количественную характеристику особенностей протекания их химических превращений, что привело к значительной интенсификации взаимодействия теории и эксперимент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4788000" y="149868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ая соединительная линия 5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255600" y="3213000"/>
            <a:ext cx="864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есс химии  во многом определили физико-химические и физические методы исследования вещества, что особенно характерно для второй половины XX столетия. Появление и развитие таких методов, как рентгеноструктурный анализ, масс-спектрометрия, методы электронного парамагнитного резонанса, ядерного магнитного резонанса, ИК спектроскопии и других привнесло не просто экспериментальное усовершенствование, а качественно новый аспект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химическое исследование – возможность определить пространственную структуру молекулы. Эта возможность оказалась определяющей для  развития   химии , поскольку свойства вещества зависят от строения его молекул. Появление физических методов исследования вещества способствовало тому, что микросистемы стали объектом особого внимания в химической науке XX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Прямоугольник 1"/>
          <p:cNvSpPr/>
          <p:nvPr/>
        </p:nvSpPr>
        <p:spPr>
          <a:xfrm>
            <a:off x="542880" y="3117960"/>
            <a:ext cx="84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заимодействие химии с другими естественными науками привело к возникновению целого ряда пограничных областей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268200" y="3789360"/>
            <a:ext cx="8721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фференциация химической науки XX столетия проявилась в возникновении отдельных ветвей химии – неорганической, физической, органической и др., каждая из которых приобрела признаки независимой науки. Разделение различных направлений химии было основано как на методах (например, лазерная химия, химия высоких давлений, комбинаторная химия) так и на объектах исследования (нефтехимия, химия полимеров и др.). В XX в. возникло довольно много новых направлений в химии, потребовавших специфического теоретического аппарата (радиохимия, медицинская химия и др.). 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мках процесса разделения химической науки на отдельные дисциплины следует отметить размывание границ между ними и условность отнесения ряда исследований (например, исследований элементоорганических веществ или координационных соединений с органическими лигандами) к тому или иному разделу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pic>
        <p:nvPicPr>
          <p:cNvPr id="145" name="Таблица 1" descr=""/>
          <p:cNvPicPr/>
          <p:nvPr/>
        </p:nvPicPr>
        <p:blipFill>
          <a:blip r:embed="rId3"/>
          <a:stretch/>
        </p:blipFill>
        <p:spPr>
          <a:xfrm>
            <a:off x="324000" y="2962440"/>
            <a:ext cx="8429400" cy="37494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341280" y="3213000"/>
            <a:ext cx="846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м из важнейших результатов интеграции  химии  с другими дисциплинами стало появление во второй половине XX в. новой  тенденции  в ее  развитии . Эта тенденция проявилась в определяющем значении биологических и экологических проблем в химических исследованиях и явилась следствием быстрого прогресса биологических дисциплин во второй половине XX в.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личные разделы физической  химии  получили дальнейшее  развитие , и некоторые из них (химическая кинетика, коллоидная  химия , электрохимия и др.) стали обширными научными дисциплинами, выходящими за рамки классической физической хими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Прямоугольник 1"/>
          <p:cNvSpPr/>
          <p:nvPr/>
        </p:nvSpPr>
        <p:spPr>
          <a:xfrm>
            <a:off x="250920" y="350028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Нобелевских премий по химии показывает, что р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оты в области неорганической химии, органической химии и биоорганической химии множатся быстрее, чем во всех остальных областях химии (их объем тоже растет, но существенно медленнее)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четание компьютерных методов с одной стороны, и методов биохимии, с другой, вызывают переориентацию органической химии с традиционного ее толкования на все большее выявление взаимоотношений структуры и свойства. По всей видимости, можно прогнозировать, что органическая  химия, поддержанная  развитием  биохимии, математики, биофизики, найдет новую точку роста в области связи структуры и свойства.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Прямоугольник 1"/>
          <p:cNvSpPr/>
          <p:nvPr/>
        </p:nvSpPr>
        <p:spPr>
          <a:xfrm>
            <a:off x="507960" y="321300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Н. Семенов (1896—1986), основатель Института хими­ческой физики,  Нобелевский лауреат, говорил о химии как о «науке и производстве». «Основным и наиболее характерным предметом химии как науки и как производства, — утверждал он, — являются про­цессы получения из определенных веществ (сырья) новых веществ (про­дуктов), обладающих существенно новыми свойствами»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енов упомянул в качестве связующего звена, соединяющего хи­мическую науку и химическое производство, вещество. Ве­щество — это сырье, продукт, полупродукт (промежуточный продукт)производства, а также окружающая человека среда, рассмотренная со стороны ее свойств и состав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Прямоугольник 1"/>
          <p:cNvSpPr/>
          <p:nvPr/>
        </p:nvSpPr>
        <p:spPr>
          <a:xfrm>
            <a:off x="395280" y="313992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 развития  науки химии  характерны некоторые так называемые внешние особенности. Они проявились в том, что исследования в этот период стали проводиться в рамках институтов, как, правило, не единичными исследователями, а (особенно во второй половине XX в.) большими группами исследователей. Существенно возросла роль информационного фактора – увеличилось количество периодических изданий, конференций и пр., способствующих быстрому обмену информацией и прогрессу химической науки. К концу XX столетия химия стала представлять собой громадный конгломерат научно-исследовательских разработок и мощной химической индустрии. (Нобелевские премии начали присуждать группе ученых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395280" y="3357720"/>
            <a:ext cx="640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, в 1930-х гг. в работах русского физика и химика Н.Н. Семенова и американского химика С. Хиншелвуда были созданы (и подтверждены экспериментально) основы теории разветвленных цепных реакций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ы Д. Ч. Поляни, Д. Р. Хершбаха и др. способствовали развитию нового направления в области химической кинетики – изучению динамики элементарных химических процессов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4788000" y="132228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ая соединительная линия 4"/>
          <p:cNvSpPr/>
          <p:nvPr/>
        </p:nvSpPr>
        <p:spPr>
          <a:xfrm>
            <a:off x="-36360" y="285264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Прямоугольник 1"/>
          <p:cNvSpPr/>
          <p:nvPr/>
        </p:nvSpPr>
        <p:spPr>
          <a:xfrm>
            <a:off x="324000" y="3027240"/>
            <a:ext cx="849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й дисциплиной, возникшей на границе физики и химии, стала коллоидная химия . Обнаружение специфики коллоидной частицы позволило многим философам и историкам химии рассматривать ее как пример изученного в XX столетии «усложнения уровней внутренней организации» вещества по сравнению с различаемыми во второй половине XIX в. атомом и молекулой. К таким более сложным видам организации вещества (которые часто трудно однозначно отнести к физическим или химическим) относят не только коллоидные частицы, но и полученные в 1950-х – 1990-х гг. «топологические» молекулы (катенаны, ротаксаны), супрамолекулы, а также наносистемы и т.п. Отметим, что наносистемы  (а наноразмер – это размер коллоидной частицы) стали выделять в отдельную группу химических объектов примерно в 1980 – 1990-х гг.; тогда же возникло специальное направление исследований – нанохимия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3316320" cy="6462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539640" y="278136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  <a:ea typeface="Arial"/>
              </a:rPr>
              <a:t> 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ая премия по   химии  —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ее престижная  награда за научные достижения в области химии, ежегодно присуждаемая Нобелевским  комитетом в Стокгольме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561960" y="443700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ериод с 1901 г., когда впервые состоялось присуждение Нобелевских премий, по 2010 г. число лиц и организаций, ставших нобелевскими лауреатами, достигло 833. В совокупности они представляют очень большую часть истории мировой науки и культуры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3529080" cy="158436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ая соединительная линия 4"/>
          <p:cNvSpPr/>
          <p:nvPr/>
        </p:nvSpPr>
        <p:spPr>
          <a:xfrm>
            <a:off x="-36360" y="2781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Прямоугольник 1"/>
          <p:cNvSpPr/>
          <p:nvPr/>
        </p:nvSpPr>
        <p:spPr>
          <a:xfrm>
            <a:off x="324000" y="278136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рганической химии наиболее ярко проявилась свойственная химии способность создавать вещества, не существующие в природе. Например,                         в 1940-60-х гг. американский химик Р. Вудворд осуществил синтез сложнейших биологически-активных органических соединений – хинина, витамина В12, стрихнина, холестерина, и др. В конце 1960-х гг. американский ученый Э. Кори сформулировал общую методологическую концепцию органического синтеза, получившую название ретросинтетического подхода.  Нобелевская премия по  химии  (2006 г.) была присуждена за вклад «в  развитие  метатезиса в органическом синтезе» французскому ученому И. Шовену и американским ученым Р. Граббсу и Р. Шроку. «Успехи в исследовании реакции обмена, сделанные этими учеными, позволяют создавать новые молекулы для использования в фармацевтических препаратах и безвредном для окружающей среды производстве химикалий и пластмасс», - отмечается в сообщении Королевской академии наук Швеци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250920" y="312912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торой половине ХХ в. очень большое значение приобрели научные дисциплины, возникшие на границе органической химии и биологии. «Взрывное»  развитие  претерпели такие науки, как биохимия, биоорганическая  химия , молекулярная биология и т.д. Методы органической химии широко использовались при изучении белковых веществ и ферментов. Также началось интенсивное  развитие   химии  нуклеиновых кислот. В начале 1950-х гг. было сделано два основополагающих открытия в химии нуклеиновых кислот. Английские химики А. Тодд и Д. Браун обосновали базовый принцип строения РНК. В 1953 г. Дж. Уотсон и Ф. Крик установили вторичную структуру ДНК, что позволило объяснить процесс удвоения молекул ДНК при делении клеток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216000" y="3284640"/>
            <a:ext cx="87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ло новое самостоятельное направление исследований – молекулярная биология, изучающая биологические явления на молекулярном уровне. Она добилась удивительных успехов в изучении химизма передачи наследственных признаков. Так, в 1950-70-х гг. были синтезированы первые полинуклеотиды, расшифрован генетический код, расшифрована первичная структура ряда молекул ДНК и РНК. Все эти исследования открыли путь для развития генной инженерии. В области молекулярной биологии были сделаны важнейшие открытия, касающиеся химических основ процессов синтеза белка в клетке, передачи нервного импульса и многих других биологических процессов.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Прямоугольник 2"/>
          <p:cNvSpPr/>
          <p:nvPr/>
        </p:nvSpPr>
        <p:spPr>
          <a:xfrm>
            <a:off x="431640" y="3357720"/>
            <a:ext cx="828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тя осмысление и анализ научных достижений  на примере Нобелевских  премий по химии  еще предстоит историкам, тот факт, что области исследований на стыке органической химии с биологией стали в этот период доминирующими в научной химической проблематике, представляется несомненным уже сейчас. Интерес к изучению биологических объектов и процессов проявился практически во всех областях химии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ий путь  развития  химических теорий привел к небывалому прогрессу  химии  ХХ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., результаты которого стали неотъемлемой частью общего прогресса естествознания и повседневной жизни каждого человек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Прямоугольник 1"/>
          <p:cNvSpPr/>
          <p:nvPr/>
        </p:nvSpPr>
        <p:spPr>
          <a:xfrm>
            <a:off x="324000" y="2576520"/>
            <a:ext cx="8496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а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Азимов А. Краткая история химии.  Развитие  идей и представлений в  химии . – Спб.: Амфора, 2002. – 26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Быков Г. В. История органической химии. Открытие важнейших органических соединений. М.: Наука, 1978 – 37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Возникновение и  развитие   химии  с древнейших времен до XVII в. Всеобщая история химии. – М.: Наука, 1980. – 39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Джуа М. История химии. – М.: Мир, 1975. – 477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Зефирова О. Н. Краткий курс истории и методологии химии. – М.: Анабасис, 2007. – 140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Кузнецов В. И. Диалектика  развития   химии  (от истории к теории  развития   химии). – М.: Наука, 1973. – 327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оловьев Ю. И., Трифонов Д. Н., Шамин А. Н. История химии.  Развитие  основных направлений современной  химии . – М.: Просвещение, 1984. – 335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 Становление химии как науки. Всеобщая история химии. – М.: Наука, 1983. – 464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6404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468360" y="2924280"/>
            <a:ext cx="820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ь классических премий установил в 1895 году, подписав свою последнюю волю, знаменитый химик и изобретатель Альфред Нобель. Он завещал инвестировать большую часть своего состояния в фонд, доходы которого будут раз в год оплачивать награду людям, принесшим пользу человечеству в областях физики, химии, физиологии и медицины, литературы и дела укрепления мира. Именно в таком порядке они были перечислены в завещании Нобеля, и именно в таком порядке лауреаты получают премию на декабрьском приёме у короля Швеци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640400" cy="646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569880" y="3284640"/>
            <a:ext cx="8323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ыре премии – по физике, химии, литературе и экономике – присуждает Шведская академия наук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я в области физиологии и медицины Нобель доверил оценивать стокгольмскому Каролинскому институту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от премию мира и объявляют, и вручают в Осло. По не понятным до конца причинам перед смертью Альфред Нобель доверил выбор лауреата комиссии из пяти человек, представляющих норвежский Стортинг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206960" cy="6462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539640" y="3141720"/>
            <a:ext cx="820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учение Нобелевских премий происходит 10 декабря, в годовщину смерти Альфреда Нобеля. В этот же день в столице Норвегии Осло проводится церемония награждения Нобелевской премией мир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этой же неделе проводится и ряд других мероприятий, в частности, приемы и банкеты, организуемые каждым из учреждений, присуждающих премии, а также Нобелевским фондом и королевской фамилией Швеции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ы выступают с лекциями на тему своей работы, а нередко организуются еще и публичные дискуссии и другие выступления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5"/>
          <p:cNvSpPr/>
          <p:nvPr/>
        </p:nvSpPr>
        <p:spPr>
          <a:xfrm>
            <a:off x="1979640" y="1268280"/>
            <a:ext cx="68403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ственным химиком, кто получил две Нобелевские премии по химии (в 1958 и 1980 годах) был Фредерик Сэнгер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ще двое получили по две Нобелевские премии по различным дисциплинам – Мария Кюри (по физике в 1903 году и по химии в 1911 году) и Лайнус Полинг (по химии в 1954 году и мира в 1962 году)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сю историю Нобелевской премии по химии было восемь перерывов ее присуждения: в 1916, 1917, 1919, 1924, 1933 и 1940-1942 годах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Прямая соединительная линия 7"/>
          <p:cNvSpPr/>
          <p:nvPr/>
        </p:nvSpPr>
        <p:spPr>
          <a:xfrm>
            <a:off x="1763640" y="1125360"/>
            <a:ext cx="734544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8" name="Picture 2" descr="C:\Users\Кульпаш\Pictures\Frederick_Sanger2.jpg"/>
          <p:cNvPicPr/>
          <p:nvPr/>
        </p:nvPicPr>
        <p:blipFill>
          <a:blip r:embed="rId3"/>
          <a:stretch/>
        </p:blipFill>
        <p:spPr>
          <a:xfrm>
            <a:off x="6659640" y="290520"/>
            <a:ext cx="2160360" cy="26589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1908000" y="1270080"/>
            <a:ext cx="468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глийский биохимик и корифей молекулярной биологии, дважды лауреат Нобелевской премии по химии: за определение аминокислотной последовательности инсулина (1955 г.) и  за разработку метода секвенирования ДНК (1980 г.)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6617520" y="295596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редерик   Сэнгер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Прямоугольник 12"/>
          <p:cNvSpPr/>
          <p:nvPr/>
        </p:nvSpPr>
        <p:spPr>
          <a:xfrm>
            <a:off x="6804000" y="3244680"/>
            <a:ext cx="225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одился 13 августа 1918 года в Англи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Прямоугольник 1"/>
          <p:cNvSpPr/>
          <p:nvPr/>
        </p:nvSpPr>
        <p:spPr>
          <a:xfrm>
            <a:off x="1865160" y="4338720"/>
            <a:ext cx="7135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им открытием  Сэнгер  дал возможность заглянуть "внутрь" молекул белка, открыв новую эру в развитии современной биохимии. Экспериментальные методы  Сэнгера  широко применяются в настоящее время для исследования строения различных белковых молекул.                 В настоящее время  Сэнгер  занимается биохимией белков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1835280" y="148428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ая премия по химии была вручена в 1901 году голландцу                           Я. Х. Вант-Гоффу за работу                            в области законов химической динамики и осмотического давления в растворах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7" name="Picture 3" descr="C:\Users\Кульпаш\Pictures\химик.jpg"/>
          <p:cNvPicPr/>
          <p:nvPr/>
        </p:nvPicPr>
        <p:blipFill>
          <a:blip r:embed="rId3"/>
          <a:stretch/>
        </p:blipFill>
        <p:spPr>
          <a:xfrm>
            <a:off x="6486480" y="277920"/>
            <a:ext cx="2435400" cy="3168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6464160" y="3504240"/>
            <a:ext cx="2457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ант-Гофф 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коб Хендрик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30.8.1852 — 1.3.1911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827360" y="4416480"/>
            <a:ext cx="73166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874 -75 В. впервые изложил теорию пространственного расположения атомов                          в молекулах органических соединений, лежащую в основе современной стереохимии. Им были созданы или значительно расширены: химическая кинетика, термодинамика химических реакций, теория разбавленных растворов и учение о равновесиях в водно-солевых системах. Вант-Гоффу принадлежит одно из основных уравнений химической термодинамики, которое выражает зависимость константы равновесия от температуры реакции и показывает, что эта зависимость определяется тепловым эффектом реакции. Он вывел формулу, выражающую константу равновесия через изменение свободной энергии (энергии Гиббса). Тем самым закон действующих масс для химического равновесия получил термодинамическое обоснование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1979640" y="1413000"/>
            <a:ext cx="496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ами Нобелевской премии по химии 2010 года  стали ученые из США и Японии - американец Ричард Хек и японцы Эити Негиси и Акира Судзуки. Они получ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мию за исследования в области органического синтеза. Ученые изучали реакции создания перекрестных связей                          в ходе органического синтеза с помощью палладиевых катализаторов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говорится в сообщении Нобелевского комитета, премия присуждается этим исследователям за "разработку новых, более эффективных способов соединения атомов углерода для построения сложных молекул, которые совершенствуют повседневную жизнь людей"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4" name="Picture 6" descr="р хек"/>
          <p:cNvPicPr/>
          <p:nvPr/>
        </p:nvPicPr>
        <p:blipFill>
          <a:blip r:embed="rId3"/>
          <a:stretch/>
        </p:blipFill>
        <p:spPr>
          <a:xfrm>
            <a:off x="6950160" y="1127160"/>
            <a:ext cx="1285920" cy="145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негиси"/>
          <p:cNvPicPr/>
          <p:nvPr/>
        </p:nvPicPr>
        <p:blipFill>
          <a:blip r:embed="rId4"/>
          <a:stretch/>
        </p:blipFill>
        <p:spPr>
          <a:xfrm>
            <a:off x="6875640" y="2975040"/>
            <a:ext cx="1873080" cy="1398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по химии"/>
          <p:cNvPicPr/>
          <p:nvPr/>
        </p:nvPicPr>
        <p:blipFill>
          <a:blip r:embed="rId5"/>
          <a:stretch/>
        </p:blipFill>
        <p:spPr>
          <a:xfrm>
            <a:off x="6948360" y="4797360"/>
            <a:ext cx="1871640" cy="1398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7101000" y="256536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чард Хек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247160" y="443700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ити Негис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7101720" y="6186600"/>
            <a:ext cx="15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ира Судзук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5:36:24Z</dcterms:created>
  <dc:creator>Кульпаш</dc:creator>
  <dc:description/>
  <dc:language>en-US</dc:language>
  <cp:lastModifiedBy>LEGION</cp:lastModifiedBy>
  <dcterms:modified xsi:type="dcterms:W3CDTF">2015-05-01T11:08:15Z</dcterms:modified>
  <cp:revision>29</cp:revision>
  <dc:subject/>
  <dc:title>Презентация PowerPoint</dc:title>
</cp:coreProperties>
</file>